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C8E-11C5-4DA2-A837-5872E7E3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520-5E48-4CBE-9DC0-D9ECDA0B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9EB-1D6F-4C53-A9AD-6EC11726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6DA-09AB-40E0-B24E-675F1F76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33FE-D7EC-4379-97F4-2D5BE1EA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10E6-7983-45F7-A97D-5733CE56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EFBD-1B7F-412A-A77E-04B73565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30E-49B6-4923-97DC-CB291016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89EE-E4EC-48B3-9B01-E8F8F645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0F38-C695-4366-A0AF-4416169C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2830-F005-4E33-941A-4D2949A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A54-02EE-4231-AA18-9D427E30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0A5F-9A38-4B1C-82FD-0B34544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62AC-A62F-4F89-856E-509E5F33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1A3A-C623-4849-A2A4-E4521FA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339C-0390-4859-BF15-8A5F0C15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06A0-27EE-4474-96D2-14C4C0A5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2CF-7E4B-4CBD-8860-D15BE755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D9A-33AB-4A48-A430-710DEA7C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FF6-03A4-418E-BBCE-B86D373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8EF-B57C-4147-BD67-AF100169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582-50AA-4BF4-AE52-0F6C99F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2DD-946E-4FAD-8ED8-3601726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D4A-5F56-4567-89E5-043DC62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BC9B-A3BD-4E10-A2FA-ABF4F25466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6192-E5C2-4CAB-AE3E-7E3E89A012D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umbered Head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teps for Numbered Head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umbered off from 1 to 4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sten to the ques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with your group and prepare to sha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ort your group’s ideas if you number is call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umbered Heads Sentence Starter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 you thin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ld you explain you thinking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have another ide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’d really like to hear your thoughts on ___________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reeing and Disagree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like the way ____________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hear your views, but I disagree because ________________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had a different reaction.  I thou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________________________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Elaborat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gree, but would also add that 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ould combine these ideas by 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porting Id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ll agree that ________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of us agree that ____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think ______________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seems to us that ____________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8:28:33Z</dcterms:created>
  <dc:creator>Barbara Vogt</dc:creator>
  <dc:description/>
  <dc:language>en-US</dc:language>
  <cp:lastModifiedBy>Barbara Vogt</cp:lastModifiedBy>
  <dcterms:modified xsi:type="dcterms:W3CDTF">2012-02-11T18:41:44Z</dcterms:modified>
  <cp:revision>2</cp:revision>
  <dc:subject/>
  <dc:title> Numbered Heads Steps for Numbered Heads</dc:title>
</cp:coreProperties>
</file>